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452E-4E8E-4837-AF04-56A44601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DA9A-6862-4C0B-B934-7D174A9C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F1BB-7237-4EE0-9B21-69197DDC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D071-80BD-48A2-A5B6-EE04CCDC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1D24-CD2C-416B-BFCF-DEC9069F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78FF-CF1A-4960-BEE2-97339C1E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FFC5-AC16-4913-A15F-FBD81E58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8276-8A0D-47A0-9191-BB753F9C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6EC3-C734-46A7-921F-6EFC6CE8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4DDB-4757-4058-91D9-96084BB1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FF12-4CC7-4124-8F9F-D017836C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CF58-6B4B-467C-BCDA-608E8879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BDA1-7329-4812-9CFB-ACF70D0F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0CD5-20CF-4CCB-B08B-92713F88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4A7F-DABA-4CC5-9BD4-93DD5734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2E1C-AC04-4211-902E-C9F86BB7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2D80-96F4-4205-BB12-448E9186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DFFC-2555-4A92-BE98-26F0544A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0FB2-3288-4E83-9E07-BC618B7C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2B4F-1607-459B-A821-20B4FAD0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7F39-CF43-4A1E-9D02-84A76DC9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7931-FAC8-4FAC-B8B5-F2ED4848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7885-6C67-49BE-A71E-2EF0C457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422F-3535-4540-B53D-C3C3E38F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FE8A-0D3F-4203-A05E-85158B79F0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0DD7-D8DE-4DC5-9323-CBBF1401DD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47640" y="476280"/>
            <a:ext cx="5705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inion Pro SmBd"/>
              </a:rPr>
              <a:t>Elizabeth Taylor</a:t>
            </a:r>
            <a:endParaRPr b="0" i="1" lang="en-US" sz="66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inion Pro SmBd"/>
              <a:ea typeface="Minion Pro SmB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95280" y="2349360"/>
            <a:ext cx="2538360" cy="3384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-4586760" y="3243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63600" y="2272320"/>
            <a:ext cx="3667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Arial"/>
              </a:rPr>
              <a:t>Elizabeth Taylor was born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Arial"/>
              </a:rPr>
              <a:t>February,27th, 1932 in Londo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Arial"/>
              </a:rPr>
              <a:t>in a family of the English dealer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Arial"/>
              </a:rPr>
              <a:t>of painting and sculpture product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</a:rPr>
              <a:t>When  the girl  turned 7  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Arial"/>
              </a:rPr>
              <a:t>,parents  went to Ame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Arial"/>
              </a:rPr>
              <a:t>where daddy Tayl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Arial"/>
              </a:rPr>
              <a:t>had opened an art gallery 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Arial"/>
              </a:rPr>
              <a:t>Beverly Hills —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Arial"/>
              </a:rPr>
              <a:t>the most fashionable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Arial"/>
              </a:rPr>
              <a:t>of Los Angel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589800" y="2060640"/>
            <a:ext cx="2554200" cy="338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2130480" cy="2664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987640" y="549360"/>
            <a:ext cx="32637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inion Pro"/>
              </a:rPr>
              <a:t>Biography</a:t>
            </a:r>
            <a:endParaRPr b="0" lang="en-US" sz="4800" spc="1" strike="noStrike">
              <a:ln w="19080">
                <a:solidFill>
                  <a:srgbClr val="00ff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inion Pro"/>
              <a:ea typeface="Minion Pro"/>
            </a:endParaRPr>
          </a:p>
        </p:txBody>
      </p:sp>
      <p:sp>
        <p:nvSpPr>
          <p:cNvPr id="104" name=""/>
          <p:cNvSpPr/>
          <p:nvPr/>
        </p:nvSpPr>
        <p:spPr>
          <a:xfrm>
            <a:off x="522000" y="2782080"/>
            <a:ext cx="8614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gic beauty of Elizabeth admired all people. She received the first invi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act in the film at the age of ten yea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ilm « Born every minute » (1942)  began her career on the scre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on she signed the long-term contract with «Underground Goldvin Meyer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 the film “Velvit on jumps »(1944) — about touching friendship of the girl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rize-winning horse - became her first considerable actor's achievemen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izabeth Taylor  had loved these noble animals since her childhood: the first pon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s presented to her at the age of 3 years.She played child's roles in films «Lessi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e back home» (1943), "Jane Ejr" (1944), «White rocks of the Louvre» (1944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Courage of Lessi».  Liz became a romantic maiden in the film of D.Stevens "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sun“(1951) — a secondary screen version of "the American tragedy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97760" y="0"/>
            <a:ext cx="204624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0" y="30402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2378520"/>
            <a:ext cx="995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izabeth Taylor's private life  gave food for  gossi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created additional advertising to her and, of course, to films with 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tion. Even skeptics have  recognized  tha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izabeth Taylor is not only too beautiful, but very talen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 role of  Kleopatra is  overwhelming.This film makes deep impression on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tato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izabeth Taylor has everything: fame, plenty of money and a happy lif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740720" y="0"/>
            <a:ext cx="1403280" cy="3284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09:14:54Z</dcterms:created>
  <dc:creator>Customer</dc:creator>
  <dc:description/>
  <dc:language>en-US</dc:language>
  <cp:lastModifiedBy>Пользователь</cp:lastModifiedBy>
  <dcterms:modified xsi:type="dcterms:W3CDTF">2009-11-27T13:17:22Z</dcterms:modified>
  <cp:revision>9</cp:revision>
  <dc:subject/>
  <dc:title>Слайд 1</dc:title>
</cp:coreProperties>
</file>